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09FC-E7E5-41D7-BA9C-D3AE6CFF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38EB1-412C-4460-9297-FB4D8EA23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03B3-B207-4EDA-AD49-207DA8011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A69B-81A7-4806-A894-3E8659062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2A24-D8CF-4AF7-9B39-455260FD1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126C-4D67-481E-8445-1FE21A922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3FCC-84C2-43E2-AD12-D98A799ED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A3DF-379E-4F56-9F82-E1CD8A79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DB35-320C-4159-9083-BFD66BF03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A66D-7F57-4EE5-B0B7-6E35B1A06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845F-2400-45AB-B0FD-C862B976E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8A14-BE05-499B-8163-5B9E0EEDB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87836-3D6B-46FD-BA11-7300C830A5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71280"/>
            <a:ext cx="9144000" cy="69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8:06Z</dcterms:created>
  <dc:creator>INVES-S6600A</dc:creator>
  <dc:description/>
  <dc:language>en-US</dc:language>
  <cp:lastModifiedBy>INVES-S6600A</cp:lastModifiedBy>
  <dcterms:modified xsi:type="dcterms:W3CDTF">2010-11-23T13:29:00Z</dcterms:modified>
  <cp:revision>1</cp:revision>
  <dc:subject/>
  <dc:title>Diapositiva 1</dc:title>
</cp:coreProperties>
</file>